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4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9AA4-1A78-4CB4-8182-97DDC86F8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C57-75C5-41CB-90AF-24BB4E30A7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2674-CA64-4AB9-92DC-1FE6BD5483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312B-733F-4884-8861-B70BDDB197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C0D7-7D2D-4BB6-9D28-4C78ACFD0A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A8E-7E8C-44F9-B908-55615A5B20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484-7BE6-43F1-8A1E-3C56DE0FB2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692D-C410-4713-84AD-026C3EF50B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C2A-51A1-4587-8886-09A3AE4E86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F1CC-55CE-4F74-B0BA-A4F989D1EC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FA3-5A06-4DAD-94E6-7213F6491C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6B3E-25FF-41F3-8EC3-2C493E70DC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B5D-B757-478E-ABF7-5768184BF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EB35-A94B-4717-9467-1355DE060A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8E57-4B8B-4B94-8AF0-F6F922C071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1B6C-7FA0-4AE0-958C-E701C837F3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D7DE-9AA8-43E7-B496-A2FC25EF14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8439-3C1D-445B-A0F7-3CEAFEDDAA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EAE-31E6-4ACB-8AF7-8851F387F4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ID: FFR1.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See figure 39 in the forthcoming 2018 NSDUH Report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5B063-4470-42F3-ABCD-E96DA0250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A382-5EF2-490C-9336-79C9BE2130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34A-5DF8-460C-A953-00CB03B68E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8968D-B77B-4FBC-89D7-DFA3954B2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01F9-5D8A-4B50-8D9C-B97D2D60C7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09CB3-917A-4D1A-8131-07400A313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ABC42-9482-4559-ADE3-76482344A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E00-156D-4429-B6B7-6A1814C8FB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427040" y="1154160"/>
            <a:ext cx="4156200" cy="31161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C11FF-28F8-4915-AC29-14C93322E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427040" y="1154160"/>
            <a:ext cx="4156200" cy="31161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6CE3B-B780-4F58-9BEE-77E9BF70E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58B-1FFC-4E8C-9FDB-71B11F6810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0319-DED7-42E6-B24C-6FABE16D3A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C5F3-FDA4-49E7-8F87-C4D0605A58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D81-1047-4F2E-818D-C1FC0C5349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56A-3836-4B03-86F6-86C8F914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F2C-401E-4E11-B33C-5570DF4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59248-B10C-4857-BAE0-4AD8C351560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90195-DF51-486A-95C2-E87F8E4923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C8A85-E44C-47D4-A034-4C8042CE88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81F8A-F5FC-4A24-8639-77ECEFD9F1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96A4B-E013-443F-A44E-696BCB52DC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B5344-D785-4221-AFD2-0A25E5DD0E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4939D-1C1D-459F-999D-F9E3C9D825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919D7-2220-4213-8C3C-A5B9A953EA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AA678-5C8D-4B09-BABA-69E231B0AC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BEDC5-B170-4438-B397-4D2EB0163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169-ABA6-4123-9DE0-3EF4AD03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156F0-C452-4E75-8F10-6D6CD2B410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F9233-78CB-447B-8E72-2F5610AB7F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4B128-425A-4B50-A600-FE294CE802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FE77D-796B-4E64-A38A-E7B5541629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3DD95-B270-4E19-A03E-291D0E3F19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17FF5-3F8A-4427-B1FC-360710A21E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B9678-812A-40E7-A4CA-43E4735642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5D9C0-0F2C-4A13-B185-23070E70A11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A30B8-5151-451D-A605-433DCA99E5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5F57A-3B83-4246-A1F0-D7B2EEC34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6E1-5CFC-4BA9-9838-76D0ABD8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188E9-5135-4269-822B-497FD22545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A81F-8E48-4275-94E8-748405A6EF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15DC-2215-4F04-9550-E1F5E5ABEF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12E0-DC81-45C6-A8C0-BA04E47ADC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4369-D21E-4C0E-BBF3-41D2CF9B344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4AEC-BBD4-43FC-9C72-2C313168DC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D5D9-C72D-4FAC-9CB6-2995596431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8E93-5492-475E-B8B0-0C1F3DC19F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BFCF-BCE1-4308-8CAC-494ED2D292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83CB-0DDA-4EAE-A529-D10B6565E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0A9C-FB78-48AA-9872-B15227EA558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59AC-3943-4304-80C8-CEE5187F364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3A31-C03D-4039-BA5C-C7AF947D013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F9A3-A9AF-49C2-9FBA-D6759AEEC1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69F56-C6C9-4D5C-A550-045CE6AB57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FDC7B-6821-4A19-8655-5A45B4AFDE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7A00A-CA33-4555-9F0F-E3B9D68251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F4C5DB-333F-476D-84C6-EAF247546A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0CE313-0D50-4B26-9994-359B47551F9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F9EE4A-1C4C-4D27-BF8A-27AC945D8FF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3FDA53-BA96-44BD-809E-A2A9124871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3CB53-686B-4989-A6F0-C0FC465FB75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6E875-4B81-4899-9B93-9C6814D847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EEE690-73FF-4A48-B0E0-FFAEB1D63A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67320-4B23-4AC7-9380-110C326311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D56C5-F2D0-4127-B0EC-9F436E8585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3073B-7360-4DB6-A81A-7EC11D3085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2F960-35D3-4168-80E4-D759DF46A89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C6A95-9B03-42D9-85A1-514CF1CCDBA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58694-4F62-4B41-B502-EEB41382CFD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42EE2-A2D2-4FDC-831E-CBAA2B34DDA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5BFD8-7B58-4C33-AF43-AC9E33CE1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7CB04-B323-48B6-8E33-4A0187D9862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7CC92-BF62-4CCD-B645-48A2E5DBE4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A1806-B1AB-450D-B402-60B955FE35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7668B-F081-405E-B4C4-DBE430B967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39C91-6ADB-461D-9F7B-1CC5F5C4AF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8B7D8-C0A7-45CC-9CF9-607D66149DC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C920D-AA48-440A-9038-B41000B0C9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CCF4A-17E0-4549-8536-E920D6DB36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DDAD-E762-408A-8BF2-52D0B4E0EA6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CD46-11BF-42D3-8201-9E6F5D231CA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C675-819A-4AAF-ADC1-585B1EF055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E9FD8-4B52-4141-8BE4-B717B435C48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AD2A8-3819-49D8-BFAB-6DDA1D4B326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4CFC-374A-488B-9BAB-AB0EB2EE676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2D67-5C41-42CF-82FD-84C6737FC95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F298-B43E-41E3-B168-D4B54808EC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DF32-395F-444B-93B2-6667A197030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9168-F8E2-406B-9C9E-099BF753C78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A816-B6A1-45AA-B9FD-6AC004268B5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AD0D-BD70-4F0C-A063-C0C7A2A3FFB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4794-B8BC-4908-8558-A3113A6D440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4CA3D-3477-42F9-B3E4-23FD8E882C7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B1D5C-820C-454F-97A4-C410721DF71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ABD78-BF37-4CDA-9494-E2B66DD1620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651-AADF-41DA-933B-77FBA0F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91F59-451C-4C3B-88B2-AC555EA1DCC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57841-AD49-4D1F-99AE-3DE861E79C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8A97C-5084-4648-B083-5EBC852ADB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5D67D-2342-4653-9849-D2966CD70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645A5-4221-4C16-8BEA-639E6939D5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17B-994A-4485-9D75-3E4BB1D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222B2-4E12-473D-A73E-FF6BE7D87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0D0C-7C9F-432F-89BB-6FA30C5A72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2FFDF-1601-4660-92DE-9C10AB624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03D-DAB1-4FBC-A179-0554B36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CC08-D4CC-49CE-963B-C762B9189A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124B3-DA91-4CD8-858F-4A2038548F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6ECE-04F0-4C9C-A30C-4C03947626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64B28-F5C3-47AD-9340-36B0D8F41C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F3FFF-6D9C-4BCE-A14D-52BAAE7A74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4C16-DE4F-48B2-9FBD-2839F4B03A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31E59-CCF8-475A-B095-CD9B14143B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32C35-CE40-4899-86D3-FDAA3BE08D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F14D2-8EB0-471C-BCA6-19A4BE68DE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A79-9EFD-441B-8038-546C79E9A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02E-1613-4523-A448-B98C2EF5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A934-4395-453C-8C02-2C596D8716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3015-F24A-4963-84E4-6173188B64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5EC8-5860-47DB-9E03-5157312A15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A763-B21A-4B28-8970-F04B2732C8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F3F5-FA20-40B3-A894-389600088A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34E-5E3B-4048-9643-004195D566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AEC-1CBF-49FA-BC98-F441F23398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EB1-E2B7-4EBD-945A-C36BE109C5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95E-9671-4BFF-B559-0ADBC067AC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B467-94D8-4E32-A76A-CC82C5B10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1B0-D164-44E1-A534-CDEB8210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F1FC-434C-4256-8E42-592C5BECF4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3F438-CDCF-432C-AF21-F0A37D55AF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64B87-7CB6-47F7-BA99-AF5C9B2217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3E704-6149-4D82-8747-E3C51731EB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421E7-DB96-48A3-B0CE-DE339EE6CE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79034-9F99-484B-B310-AA87D859AF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F6FB8-56B6-4000-A38B-382E79EE89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B42B4-1A65-475D-8F91-9883607182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31D8A-F875-4502-AE41-F0738B3F32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9D738-95E9-4787-B1F6-025326C7E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386-E422-47D3-90C5-5B1E34D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B8CA2-6A4F-4E81-B8D2-2F53BE9B88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1EC07-B296-4E82-A912-C259B47A99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BC338-58C1-4D57-BF0E-24B507FACF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2DC1E-DE5E-4FC6-A6D7-03B7D5AB4E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6DFCD-0517-4BF9-B28C-B88C0580CF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B7AF4-EE31-4B0C-B40E-F9FF67E129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8E74A-8585-448C-9DAA-05C9773318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9237C-F3C7-485F-8B8D-D4F714B74B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5CD39-E29B-488C-9DFA-B82D39A1D1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67F61-DA33-42D2-9295-4B28D8A41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4A1-8325-41F7-B161-0D8C84A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CE4BC-F595-4BA4-8125-7FC6B5F741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AB439-9C17-4837-B046-D9637C78BF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54AD1-4F4F-4E3B-BC66-A5D44CBB50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A0DCB-FE04-4442-BBB9-98611761AE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DFE84-360B-4821-ABDE-95EF4814B9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883D-69D3-4B3B-8AED-4F36F7A1DD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406E-6BD0-4686-998E-0559570F9A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0610-066B-4902-8ADA-35E66BC43C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DDBC-C111-46B5-8D01-A1897FABB3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FD28-2F5F-4886-92E1-44F015439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922-78E5-4944-93FE-97D9E1CA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F43B-9692-4CE1-8291-C7E0D52CAB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3757-44C0-486F-852C-E81C037CC3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7317-9DC9-49DF-B5FC-0C767E28CD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86CB-B17F-48A3-85A5-FDCFC77C6E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648A-E646-4FDD-B0AA-E92D7F2FFE4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0B85-2CB8-457A-AA98-432D2C54BC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59D9-51AD-4BEE-BE59-4F2AC84929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0EDBD-EA40-4F11-94ED-AE28144A75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04F08-3A03-4A8A-B34E-9E30521DC0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C79C7-C871-47AC-B94A-F9AFAB2D7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F2C-44E3-4A11-9BA6-F28050AF7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1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7E6-11DE-42D6-BAE8-EEE98707FC5F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0A35-A1B9-4977-834B-FB26370FC08F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3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921B-7E82-4EE2-932F-489B3E277C98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14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65A8-EE0A-4B8B-A7E0-0A7C02D00736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57200" y="1335240"/>
            <a:ext cx="82296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HSA’s mission is to reduce the impact of substance abuse and mental illness on America’s comm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samhsa.g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77-SAMHSA-7 (1-877-726-4727) ● 1-800-487-4889 (T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15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5983-3FCB-4B0A-86B0-21729CB910B5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5CF-4354-4E21-96DD-09EC349D7863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5654520"/>
            <a:ext cx="9144000" cy="1071720"/>
          </a:xfrm>
          <a:prstGeom prst="rect">
            <a:avLst/>
          </a:prstGeom>
          <a:solidFill>
            <a:srgbClr val="a4a7aa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11040" y="0"/>
            <a:ext cx="8832960" cy="550080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311040" cy="5500800"/>
          </a:xfrm>
          <a:prstGeom prst="rect">
            <a:avLst/>
          </a:prstGeom>
          <a:solidFill>
            <a:srgbClr val="cf3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825560" y="2608200"/>
            <a:ext cx="7318440" cy="2598840"/>
          </a:xfrm>
          <a:prstGeom prst="rect">
            <a:avLst/>
          </a:prstGeom>
          <a:solidFill>
            <a:srgbClr val="1c6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6705720" y="5726160"/>
            <a:ext cx="2253960" cy="927000"/>
            <a:chOff x="6705720" y="5726160"/>
            <a:chExt cx="2253960" cy="927000"/>
          </a:xfrm>
        </p:grpSpPr>
        <p:pic>
          <p:nvPicPr>
            <p:cNvPr id="87" name="Picture 11" descr="12652_SAMHSA_LogoRedesign_FINAL.png"/>
            <p:cNvPicPr/>
            <p:nvPr/>
          </p:nvPicPr>
          <p:blipFill>
            <a:blip r:embed="rId2"/>
            <a:stretch/>
          </p:blipFill>
          <p:spPr>
            <a:xfrm>
              <a:off x="7536960" y="5887440"/>
              <a:ext cx="142272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2" descr="HHS-Logo-camera-ready.png"/>
            <p:cNvPicPr/>
            <p:nvPr/>
          </p:nvPicPr>
          <p:blipFill>
            <a:blip r:embed="rId3"/>
            <a:stretch/>
          </p:blipFill>
          <p:spPr>
            <a:xfrm>
              <a:off x="6705720" y="5726160"/>
              <a:ext cx="73152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5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6AC-FE8B-42FD-B5D4-F85F19995A4A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3126-D44D-48A6-9031-BEA09804F006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7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7451-9282-49F8-9C30-212CFDD90F01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8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029-1860-4178-87F3-39BA505F59F2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C0C7-2221-448E-A62E-16C0978ADE80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0"/>
            <a:ext cx="9144000" cy="768240"/>
          </a:xfrm>
          <a:prstGeom prst="rect">
            <a:avLst/>
          </a:prstGeom>
          <a:solidFill>
            <a:srgbClr val="1e3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12652_SAMHSA_LogoRedesign_FINAL.png"/>
          <p:cNvPicPr/>
          <p:nvPr/>
        </p:nvPicPr>
        <p:blipFill>
          <a:blip r:embed="rId2"/>
          <a:stretch/>
        </p:blipFill>
        <p:spPr>
          <a:xfrm>
            <a:off x="7615080" y="6273720"/>
            <a:ext cx="1071720" cy="5079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10"/>
          </p:nvPr>
        </p:nvSpPr>
        <p:spPr>
          <a:xfrm>
            <a:off x="4568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CD20-EFCE-46A6-9162-B3E4BE5A33BF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уробиологија мариху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Модул: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Недеља: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Проф др Мирјана Јованови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20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1 </a:t>
            </a: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за ТХЦ-а која је потребна да произведе фармаколошки ефекат у организму пушењем се креће од 2 до 22 мг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ХЦ је растворљив у масти и нагло се апсорбује после пушења, тако да ефекти у ЦНС-у и кардиоваскуларном систему почињу за мање од 1 минута, пик достижу за 20-30 минута, а ефекти трају 2-4 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торни и когнитивни ефекти могу да трају 5-12 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1036"/>
          <p:cNvGrpSpPr/>
          <p:nvPr/>
        </p:nvGrpSpPr>
        <p:grpSpPr>
          <a:xfrm>
            <a:off x="0" y="-76320"/>
            <a:ext cx="9144000" cy="6972480"/>
            <a:chOff x="0" y="-76320"/>
            <a:chExt cx="9144000" cy="6972480"/>
          </a:xfrm>
        </p:grpSpPr>
        <p:pic>
          <p:nvPicPr>
            <p:cNvPr id="744" name="Picture 1027" descr="Marijuana11"/>
            <p:cNvPicPr/>
            <p:nvPr/>
          </p:nvPicPr>
          <p:blipFill>
            <a:blip r:embed="rId1"/>
            <a:srcRect l="3100" t="0" r="50389" b="0"/>
            <a:stretch/>
          </p:blipFill>
          <p:spPr>
            <a:xfrm>
              <a:off x="0" y="-76320"/>
              <a:ext cx="45720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1029" descr="Marijuana7a"/>
            <p:cNvPicPr/>
            <p:nvPr/>
          </p:nvPicPr>
          <p:blipFill>
            <a:blip r:embed="rId2"/>
            <a:srcRect l="0" t="2551" r="4762" b="5102"/>
            <a:stretch/>
          </p:blipFill>
          <p:spPr>
            <a:xfrm>
              <a:off x="4572000" y="-42840"/>
              <a:ext cx="4572000" cy="69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Rectangle 1030"/>
            <p:cNvSpPr/>
            <p:nvPr/>
          </p:nvSpPr>
          <p:spPr>
            <a:xfrm>
              <a:off x="0" y="4938840"/>
              <a:ext cx="3994200" cy="118908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Staccato222 BT"/>
                </a:rPr>
                <a:t>Cannabis  “sinsemilla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31"/>
            <p:cNvSpPr/>
            <p:nvPr/>
          </p:nvSpPr>
          <p:spPr>
            <a:xfrm>
              <a:off x="4876920" y="-42840"/>
              <a:ext cx="2687400" cy="1066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taccato222 BT"/>
                </a:rPr>
                <a:t>Cannabis  ind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32"/>
            <p:cNvSpPr/>
            <p:nvPr/>
          </p:nvSpPr>
          <p:spPr>
            <a:xfrm>
              <a:off x="6553080" y="566640"/>
              <a:ext cx="2216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рела стабљика мариху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033"/>
            <p:cNvSpPr/>
            <p:nvPr/>
          </p:nvSpPr>
          <p:spPr>
            <a:xfrm>
              <a:off x="0" y="642960"/>
              <a:ext cx="4578480" cy="3661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згој под вештачком расве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Audio 1" descr=""/>
          <p:cNvPicPr/>
          <p:nvPr/>
        </p:nvPicPr>
        <p:blipFill>
          <a:blip r:embed="rId3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фекти пушења марихуане се могу груписати у 4 фазе: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) фаза еуфоричног узбуђења ( физичка и морална лагодност и спокојство, илузиони феномени ),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) фаза сензорне егзалтације ( повећана изоштреност перцепција, сугестибилност, анксиозност, спациотемпорална дезоријентација ),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ц) фаза пасивне екстазе ( екстатична доживљавања са визијама, деперсонализацијама, пасивна апатија,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моћ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) фаза с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 злоупотребу марихуана карактеристичан је и прозелитизам-навођењем других на узимање дроге, веровање да проширује креативност уметника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ХЦ показује барбитуратима-сличне ефекте, као што је спречавање конвулзија,и опиоидима сличне ефекте ,укључујући аналгезију,повећану синтезу катехоламина,хипотермију и антидиареалну активно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новија истраживања показују постојање канабиноидног неурохемијског пута.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 овог пута је нејасна, али се сматра да канабиноиди утичу на следеће неуротрансмитере- ацетилхолин, допамин, ГАБА-у, хистамин, серотонин, норадреналин, опиоидне пептиде и простаглан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биноиди повећавају стварање норадреналина,допамина и серотон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ти се остварују преко канабиноидних рецептора ( највероватније Г протеински,метаботропни ), чија је густина највећа у базалним ганглијама, хипокампусу и церебелуму, док су мање заступљени у можданом кортек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" descr="MARIHUANA1a copy"/>
          <p:cNvPicPr/>
          <p:nvPr/>
        </p:nvPicPr>
        <p:blipFill>
          <a:blip r:embed="rId1"/>
          <a:srcRect l="0" t="5902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4"/>
          <p:cNvSpPr/>
          <p:nvPr/>
        </p:nvSpPr>
        <p:spPr>
          <a:xfrm>
            <a:off x="2141640" y="3962520"/>
            <a:ext cx="25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Семенке мариху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"/>
          <p:cNvSpPr/>
          <p:nvPr/>
        </p:nvSpPr>
        <p:spPr>
          <a:xfrm>
            <a:off x="228600" y="136440"/>
            <a:ext cx="3809880" cy="701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839c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Staccato222 BT"/>
                <a:ea typeface="Arial"/>
              </a:rPr>
              <a:t>МАРИХУ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831960" y="5486400"/>
            <a:ext cx="7931160" cy="640440"/>
          </a:xfrm>
          <a:prstGeom prst="rect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Тетрахидроканабинол се за разлику од веђине других дрога може детектовати у урину и након више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иничке манифест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030a0"/>
                </a:solidFill>
                <a:latin typeface="Calibri"/>
              </a:rPr>
              <a:t>Интоксикациј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симптоми су следећи:еуфорија или дисфорија,анксиозност,сумњичавост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цијално повлачење,поремећај расуђивања,повећање моторне координације,анксиозност,осећање успореног времена,као и следеће објективне знаке:дилатација крвних суд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жњаче ( црвене очи )повећање апетита,сува уста и тахикардија,дозно зависна хипотермија,и блажа седац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иничке манифест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веома великим дозама може да проузрокује блажи делиријум са паничним симптомима или продужену канабиноидну психозу која може трајати до 6 неде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веома великим дозама може да проузрокује блажи делиријум са паничним симптомима или продужену канабиноидну психозу која може трајати до 6 недељ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пстиненцијални синд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Апстиненцијални синдром-симптом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:узнемиреност,депресивно расположење,несаница,грчеви у стомаку,проливи,малаксалос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нојавање,проширене зенице,повраћање,а ретко у халуцинаторно-делрантно стање,које се може завршити и смрћ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tal Illness and Substance Use Disorders in Ame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6" name="Group 2"/>
          <p:cNvGrpSpPr/>
          <p:nvPr/>
        </p:nvGrpSpPr>
        <p:grpSpPr>
          <a:xfrm>
            <a:off x="203040" y="1531800"/>
            <a:ext cx="8940960" cy="4345200"/>
            <a:chOff x="203040" y="1531800"/>
            <a:chExt cx="8940960" cy="4345200"/>
          </a:xfrm>
        </p:grpSpPr>
        <p:sp>
          <p:nvSpPr>
            <p:cNvPr id="707" name="TextBox 12"/>
            <p:cNvSpPr/>
            <p:nvPr/>
          </p:nvSpPr>
          <p:spPr>
            <a:xfrm>
              <a:off x="5943240" y="1531800"/>
              <a:ext cx="32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 Bold"/>
                  <a:ea typeface="Arial"/>
                </a:rPr>
                <a:t>PAST YEAR, 2018 NSDUH, 18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Box 16"/>
            <p:cNvSpPr/>
            <p:nvPr/>
          </p:nvSpPr>
          <p:spPr>
            <a:xfrm>
              <a:off x="203040" y="5448240"/>
              <a:ext cx="3745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1e384b"/>
                  </a:solidFill>
                  <a:latin typeface="Arial"/>
                </a:rPr>
                <a:t>In 2018, </a:t>
              </a:r>
              <a:r>
                <a:rPr b="1" lang="en-US" sz="1100" spc="-1" strike="noStrike">
                  <a:solidFill>
                    <a:srgbClr val="1e384b"/>
                  </a:solidFill>
                  <a:latin typeface="Arial"/>
                </a:rPr>
                <a:t>57.8M </a:t>
              </a:r>
              <a:r>
                <a:rPr b="0" lang="en-US" sz="1100" spc="-1" strike="noStrike">
                  <a:solidFill>
                    <a:srgbClr val="1e384b"/>
                  </a:solidFill>
                  <a:latin typeface="Arial"/>
                </a:rPr>
                <a:t>Americans had a mental and/or substance use disord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4" descr=""/>
            <p:cNvPicPr/>
            <p:nvPr/>
          </p:nvPicPr>
          <p:blipFill>
            <a:blip r:embed="rId1"/>
            <a:stretch/>
          </p:blipFill>
          <p:spPr>
            <a:xfrm>
              <a:off x="232920" y="2000520"/>
              <a:ext cx="8532720" cy="33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0" name="Audio 2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ељени ефекти:већина психоактивних нежељених ефеката проузрокованих марихуаном нестају са престанком акутне интоксикације,што зависи од индивидуалне вулнерабилности ( показано је да је повезана са наслеђем ),факторе средине и д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готрајна употреба може довести до анскиозности,депресије,оштећења краткотрајног памћења,расејања пажње,тешкоћа у мишљењу и решавању проблема,као и до апатично-амотивационог синдрома кога карактерише апатија,слаба концентрација,социјална апстиненцијаи губитак интереса за просперит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д је у питању психомоторика , појављују се смањење мишићне снаге и извођења простих моторних образаца и рефлексних одговора. При вишим дозама оштећене су координација и равноте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5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 кардиоваскуларних нежељених ефеката се јављају повећање броја срчаних откуцаја (корелира са појавом и трајањем психичких ефеката,и са концентрацијом лека у плазми) потреба миокарда за кисеоником је повећана,а толеранција за радом је смањена ( опасност од исхемије миокарда код потрошача који већ имају атеросклерозу ),погоршавају већ постојећа обољења кардиоваскуларног система ( нарочито ангину и конгестивна оштећењ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тостатска хипотензија се јавља при вишим доза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знато је да канабис индукује пулмоналну патологију, тако да се код хроничних пушача често јавља бронхитис, фаринголарингитис, хронични кашаљ,емфизем и аст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м марихуане, инхибира плућни одбрамбени систем ( примарно алвеоларне макрофаге,неутрофиле и лимфоците ); повећан је ризик за настанак карцинома плућа и вра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ављено је да канабис реверзибилно инхибира сперматогенезу и смањује ниво тестостерона, смањује величину тестиса и простате.Код жена супримира лутеинизирајући хормон у плазми током лутеалне фазе менструалног циклуса, што води већој фреквенци ановулаторних циклу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набиноиди пролазе плацентарну баријеру и налазе се у млеку,што се може довести у корелацију са малом тежином новорођенчета и феталним абнормалностима,које су описан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Box 1"/>
          <p:cNvSpPr/>
          <p:nvPr/>
        </p:nvSpPr>
        <p:spPr>
          <a:xfrm>
            <a:off x="571680" y="-76320"/>
            <a:ext cx="8210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 Semibold"/>
              </a:rPr>
              <a:t>Marijuana Us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"/>
          <p:cNvSpPr/>
          <p:nvPr/>
        </p:nvSpPr>
        <p:spPr>
          <a:xfrm>
            <a:off x="5943600" y="1542960"/>
            <a:ext cx="3200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320" indent="-76320" algn="r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 Bold"/>
              </a:rPr>
              <a:t>PAST YEAR, 2015-2018 NSDUH, 12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5"/>
          <p:cNvSpPr/>
          <p:nvPr/>
        </p:nvSpPr>
        <p:spPr>
          <a:xfrm>
            <a:off x="4991040" y="54864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320" indent="-76320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egoe UI (Body)"/>
              </a:rPr>
              <a:t>+ Difference between this estimate and the 2018 estimate is statistically significant at the .05 level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434880" y="1627200"/>
            <a:ext cx="8123400" cy="3859200"/>
          </a:xfrm>
          <a:prstGeom prst="rect">
            <a:avLst/>
          </a:prstGeom>
          <a:ln w="0">
            <a:noFill/>
          </a:ln>
        </p:spPr>
      </p:pic>
      <p:pic>
        <p:nvPicPr>
          <p:cNvPr id="799" name="Audio 3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аши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ашиш - утиче на бројне поремећаје перцепције и то простора, звукова, времена и схеме те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рактеристични су и хаотични емоционални доживљаји ( понекад параноидна идеација повезана са страхом и халуцинацијама ), што неки називају “ функционална декортикација”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уготрајна злоупотреба хашиша “ хашишизам “ даје карактеристичне измене личности:снижење вољних динамизама,емоционалну нестабилност,моралну деградацију личности,психичку астенију,сужавање интересовањ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hashishoil3 copy"/>
          <p:cNvPicPr/>
          <p:nvPr/>
        </p:nvPicPr>
        <p:blipFill>
          <a:blip r:embed="rId1"/>
          <a:srcRect l="4581" t="4423" r="3818" b="36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5"/>
          <p:cNvSpPr/>
          <p:nvPr/>
        </p:nvSpPr>
        <p:spPr>
          <a:xfrm>
            <a:off x="5715000" y="1981080"/>
            <a:ext cx="3048120" cy="366120"/>
          </a:xfrm>
          <a:prstGeom prst="rect">
            <a:avLst/>
          </a:prstGeom>
          <a:gradFill rotWithShape="0">
            <a:gsLst>
              <a:gs pos="0">
                <a:srgbClr val="525227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ecff"/>
                </a:solidFill>
                <a:latin typeface="Arial"/>
                <a:ea typeface="Arial"/>
              </a:rPr>
              <a:t>УЉЕ ХАШ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1986120" y="5526000"/>
            <a:ext cx="399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бија се екстракциј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abi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 просеку садрж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% THC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456840" y="1447560"/>
            <a:ext cx="807732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MS PGothic"/>
              </a:rPr>
              <a:t>Психијатријска разматр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MS PGothic"/>
              </a:rPr>
              <a:t>Суицид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MS PGothic"/>
              </a:rPr>
              <a:t>Психоза (параноја, халуцинациј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MS PGothic"/>
              </a:rPr>
              <a:t>уби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MS PGothic"/>
              </a:rPr>
              <a:t>Когнитивно оштећење или деменција (оријентација, расположење, афекат, мисаони процес / садржај, памћење, апстракција, фонд знања, увид, просуђивањ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2"/>
          <p:cNvSpPr/>
          <p:nvPr/>
        </p:nvSpPr>
        <p:spPr>
          <a:xfrm>
            <a:off x="457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ADA90-2281-4752-8285-BB35CB11DD28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mportance of Mental Health Assess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0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Marijuana3"/>
          <p:cNvPicPr/>
          <p:nvPr/>
        </p:nvPicPr>
        <p:blipFill>
          <a:blip r:embed="rId1"/>
          <a:srcRect l="0" t="11589" r="20000" b="59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4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457200" y="12618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MS PGothic"/>
              </a:rPr>
              <a:t>Разликовати поремећаје изазване супстанцама од независних психијатријских поремећај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Супстанцом изазван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PGothic"/>
              </a:rPr>
              <a:t>Поремећаји повезани са употребом психоактивне супстанце; обично се решавају трајном апстиненциј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bg-BG" sz="2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Независно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MS PGothic"/>
              </a:rPr>
              <a:t>: Поремећаји који се јављају у време апстиненције; симптоми који нису повезани са употребом психоактивне супстанце; биће потребан психијатријски третм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2"/>
          <p:cNvSpPr/>
          <p:nvPr/>
        </p:nvSpPr>
        <p:spPr>
          <a:xfrm>
            <a:off x="457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1D953-EC50-4C61-99A8-0709D7C51D9A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-Occurring Disorde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685800" y="1295280"/>
            <a:ext cx="8229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libri"/>
              </a:rPr>
              <a:t>Дијагноза (е) и ниво утврђивања нег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libri"/>
              </a:rPr>
              <a:t>Развити план лечења који се односи на  употребу супстанци и менталне поремећаје: укључити све неопходне пружаоце услуга у развој плана; примарни клиничар, менаџер случаја, саветник, психијатар, лека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libri"/>
              </a:rPr>
              <a:t>Утврдите да ли су потребни лекови; разговарати са пацијентом; заједничко доношење одлука; праћење ефикасности / нежељених ефек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libri"/>
              </a:rPr>
              <a:t>Утврдити потребне психосоцијалне третмане: саветовање, психоедукација, МИ, ЦБТ, ЦМ, породична терап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libri"/>
              </a:rPr>
              <a:t>Утврдите потребну подршку за опоравак: приступ погодностима, стручну / образовну помоћ, помоћ у бризи о деци, превоз, смешта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libri"/>
              </a:rPr>
              <a:t>Објављивање информација које омогућавају комуникацију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2"/>
          <p:cNvSpPr/>
          <p:nvPr/>
        </p:nvSpPr>
        <p:spPr>
          <a:xfrm>
            <a:off x="457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18CED-E965-4FC4-92F9-448FA43F86BA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7520" y="64800"/>
            <a:ext cx="8369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tegrated Care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8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"/>
          <p:cNvSpPr/>
          <p:nvPr/>
        </p:nvSpPr>
        <p:spPr>
          <a:xfrm>
            <a:off x="571680" y="-152280"/>
            <a:ext cx="8210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Segoe UI Semibold"/>
              </a:rPr>
              <a:t>Illicit Drug Use: Marijuana Most Used Dru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5680" y="1542960"/>
            <a:ext cx="8907480" cy="4419720"/>
            <a:chOff x="85680" y="1542960"/>
            <a:chExt cx="8907480" cy="4419720"/>
          </a:xfrm>
        </p:grpSpPr>
        <p:sp>
          <p:nvSpPr>
            <p:cNvPr id="717" name="TextBox 2"/>
            <p:cNvSpPr/>
            <p:nvPr/>
          </p:nvSpPr>
          <p:spPr>
            <a:xfrm>
              <a:off x="325080" y="5677200"/>
              <a:ext cx="1846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76320" indent="-76320" algn="r">
                <a:lnSpc>
                  <a:spcPct val="95000"/>
                </a:lnSpc>
                <a:spcAft>
                  <a:spcPts val="22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 Bold"/>
                </a:rPr>
                <a:t>PAST YEAR, 2018 NSDUH, 12+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3"/>
            <p:cNvSpPr/>
            <p:nvPr/>
          </p:nvSpPr>
          <p:spPr>
            <a:xfrm>
              <a:off x="85680" y="1542960"/>
              <a:ext cx="685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76320" indent="-76320">
                <a:lnSpc>
                  <a:spcPct val="95000"/>
                </a:lnSpc>
                <a:spcAft>
                  <a:spcPts val="22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Picture 15" descr=""/>
            <p:cNvPicPr/>
            <p:nvPr/>
          </p:nvPicPr>
          <p:blipFill>
            <a:blip r:embed="rId1"/>
            <a:stretch/>
          </p:blipFill>
          <p:spPr>
            <a:xfrm>
              <a:off x="150120" y="1657080"/>
              <a:ext cx="8843040" cy="381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Audio 4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1"/>
          <p:cNvSpPr/>
          <p:nvPr/>
        </p:nvSpPr>
        <p:spPr>
          <a:xfrm>
            <a:off x="571680" y="0"/>
            <a:ext cx="8210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 Semibold"/>
              </a:rPr>
              <a:t>Marijuana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685800" y="1542960"/>
            <a:ext cx="8458200" cy="4400640"/>
            <a:chOff x="685800" y="1542960"/>
            <a:chExt cx="8458200" cy="4400640"/>
          </a:xfrm>
        </p:grpSpPr>
        <p:sp>
          <p:nvSpPr>
            <p:cNvPr id="723" name="TextBox 2"/>
            <p:cNvSpPr/>
            <p:nvPr/>
          </p:nvSpPr>
          <p:spPr>
            <a:xfrm>
              <a:off x="5943600" y="1542960"/>
              <a:ext cx="3200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76320" indent="-76320" algn="r">
                <a:lnSpc>
                  <a:spcPct val="95000"/>
                </a:lnSpc>
                <a:spcAft>
                  <a:spcPts val="22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 Bold"/>
                </a:rPr>
                <a:t>PAST MONTH, 2015-2018 NSDUH, 12+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Box 5"/>
            <p:cNvSpPr/>
            <p:nvPr/>
          </p:nvSpPr>
          <p:spPr>
            <a:xfrm>
              <a:off x="499104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320" indent="-76320">
                <a:lnSpc>
                  <a:spcPct val="95000"/>
                </a:lnSpc>
                <a:spcAft>
                  <a:spcPts val="22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egoe UI (Body)"/>
                </a:rPr>
                <a:t>+ Difference between this estimate and the 2018 estimate is statistically significant at the .05 level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885680"/>
              <a:ext cx="7581960" cy="365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Ink 3" descr=""/>
          <p:cNvPicPr/>
          <p:nvPr/>
        </p:nvPicPr>
        <p:blipFill>
          <a:blip r:embed="rId2"/>
          <a:stretch/>
        </p:blipFill>
        <p:spPr>
          <a:xfrm>
            <a:off x="5259240" y="2913120"/>
            <a:ext cx="1908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Audio 4" descr=""/>
          <p:cNvPicPr/>
          <p:nvPr/>
        </p:nvPicPr>
        <p:blipFill>
          <a:blip r:embed="rId3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playFrom(0.0)">
                                      <p:cBhvr>
                                        <p:cTn id="7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адиција конзумирања марихуане у религијске, социјалне, медицинске и културалне сврхе, иде уназад 5000 година, док злоупоупотреба започиње током 5о-их година у субкултура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ихуана и хашиш се добијају из биљке Канабис сатива ( индијска конопља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семена ове биљке добија се психоактивна смола, која садржи преко преко 60 структурно сличних састојака који се зову канабиноиди од којих је 9-тетрахидроканабинол ( ТХЦ ) најдоговорнији за већину психоактивних ефека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рихуана ( улични називи трава,биљка, Мери Џејн, МЈ, пот ,ганџа ) означава горње листове, цветове и стабљику биљке, која осушена, исечена се користи увијена у цигаре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и 4-12 % ТХЦ-а.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шиш је осушени црно-браон смоласт ексудат са врхова и доње стране лишћа женске биљке и обично садржи 40-45 % ТХЦ-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marihuana copy"/>
          <p:cNvPicPr/>
          <p:nvPr/>
        </p:nvPicPr>
        <p:blipFill>
          <a:blip r:embed="rId1"/>
          <a:srcRect l="0" t="17246" r="23469" b="12617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3"/>
          <p:cNvSpPr/>
          <p:nvPr/>
        </p:nvSpPr>
        <p:spPr>
          <a:xfrm>
            <a:off x="169920" y="50277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cc"/>
                </a:solidFill>
                <a:latin typeface="Arial"/>
                <a:ea typeface="Arial"/>
              </a:rPr>
              <a:t>Марихуана је дрога која се најчешће злоупотребљава-обично се пуши у облику цигарета-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“join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набиноиди се обично пуше у виду ручно завијених цигарета-тзв.џоинт, или преко луле или водене луле ( тзв.пајп 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последње време су постале популарне цигаре марихуана - тзв.блунт у којима је дуван замењен марихуаном ( често је марихуана у комбинацији са креком или кокаином )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ђе се користе као чај,помешани са храном или се жваћу ( почетак ефекта је одложен 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некад се користи и прчишћени ТХ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фекти ТХЦ-а зависе од дозе,фреквенце и начина употребе, као и од искуства и очекивања корис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0:04Z</dcterms:created>
  <dc:creator>Minja</dc:creator>
  <dc:description/>
  <dc:language>en-US</dc:language>
  <cp:lastModifiedBy>Minja</cp:lastModifiedBy>
  <dcterms:modified xsi:type="dcterms:W3CDTF">2021-04-11T12:38:54Z</dcterms:modified>
  <cp:revision>16</cp:revision>
  <dc:subject/>
  <dc:title>Неуробиологија марихуане</dc:title>
</cp:coreProperties>
</file>