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5.xml.rels" ContentType="application/vnd.openxmlformats-package.relationships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B8CE1-4F77-4917-9389-D643B8D590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B3C62-8185-4060-8D6D-3383F3EF95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12570-CBA6-4322-BE5C-128B0E9AB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BE441-C1BF-4CBF-932B-0188D3E61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C36B0-AA51-4E3F-8539-CFC7CD8C2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B1886-EA63-41B1-9250-790A369EA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D6BBA-4001-4E89-BAC0-9D5B3A77E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D5B79-9542-4538-AA00-B3DECF665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C1030-E6BB-4AE6-9995-9D2D607B5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D9E40-BF35-4152-9CA0-B49EA39BB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C83D7-983E-4E8C-B1F3-ED8A9CA36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09CFF-2895-4672-B706-EA65CCEC2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2FE2F-8A19-458D-ACC8-AF169DC60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03692-DA44-4D50-BE27-A3D3A23A8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DD245-E712-4BCD-8F89-A3EC030C57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Неуробиологија марихуан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700" spc="-1" strike="noStrike">
                <a:solidFill>
                  <a:srgbClr val="898989"/>
                </a:solidFill>
                <a:latin typeface="Calibri"/>
              </a:rPr>
              <a:t>Модул:</a:t>
            </a:r>
            <a:r>
              <a:rPr b="0" lang="sr-Latn-RS" sz="2700" spc="-1" strike="noStrike">
                <a:solidFill>
                  <a:srgbClr val="898989"/>
                </a:solidFill>
                <a:latin typeface="Calibri"/>
              </a:rPr>
              <a:t>2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700" spc="-1" strike="noStrike">
                <a:solidFill>
                  <a:srgbClr val="898989"/>
                </a:solidFill>
                <a:latin typeface="Calibri"/>
              </a:rPr>
              <a:t>Недеља:11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700" spc="-1" strike="noStrike">
                <a:solidFill>
                  <a:srgbClr val="898989"/>
                </a:solidFill>
                <a:latin typeface="Calibri"/>
              </a:rPr>
              <a:t>Проф др Мирјана Јовановић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700" spc="-1" strike="noStrike">
                <a:solidFill>
                  <a:srgbClr val="898989"/>
                </a:solidFill>
                <a:latin typeface="Calibri"/>
              </a:rPr>
              <a:t>201</a:t>
            </a:r>
            <a:r>
              <a:rPr b="0" lang="sr-Latn-RS" sz="2700" spc="-1" strike="noStrike">
                <a:solidFill>
                  <a:srgbClr val="898989"/>
                </a:solidFill>
                <a:latin typeface="Calibri"/>
              </a:rPr>
              <a:t>7</a:t>
            </a:r>
            <a:r>
              <a:rPr b="0" lang="sr-CS" sz="2700" spc="-1" strike="noStrike">
                <a:solidFill>
                  <a:srgbClr val="898989"/>
                </a:solidFill>
                <a:latin typeface="Calibri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Марихуана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За злоупотребу марихуана карактеристичан је и прозелитизам-навођењем других на узимање дроге, веровање да проширује креативност уметника и др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ТХЦ показује барбитуратима-сличне ефекте, као што је спречавање конвулзија,и опиоидима сличне ефекте ,укључујући аналгезију,повећану синтезу катехоламина,хипотермију и антидиареалну активност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Марихуана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Најновија истраживања показују постојање канабиноидног неурохемијског пута.</a:t>
            </a:r>
            <a:br>
              <a:rPr sz="3200"/>
            </a:b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Функција овог пута је нејасна, али се сматра да канабиноиди утичу на следеће неуротрансмитере- ацетилхолин, допамин, ГАБА-у, хистамин, серотонин, норадреналин, опиоидне пептиде и простагландин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Марихуана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анабиноиди повећавају стварање норадреналина,допамина и серотонин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Ефекти се остварују преко канабиноидних рецептора ( највероватније Г протеински,метаботропни ), чија је густина највећа у базалним ганглијама, хипокампусу и церебелуму, док су мање заступљени у можданом кортекс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3" descr="MARIHUANA1a copy"/>
          <p:cNvPicPr/>
          <p:nvPr/>
        </p:nvPicPr>
        <p:blipFill>
          <a:blip r:embed="rId1"/>
          <a:srcRect l="0" t="5902" r="0" b="555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Text Box 4"/>
          <p:cNvSpPr/>
          <p:nvPr/>
        </p:nvSpPr>
        <p:spPr>
          <a:xfrm>
            <a:off x="2141640" y="3962520"/>
            <a:ext cx="25761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000" spc="-1" strike="noStrike">
                <a:solidFill>
                  <a:srgbClr val="ffffff"/>
                </a:solidFill>
                <a:latin typeface="Arial"/>
              </a:rPr>
              <a:t>Семенке марихуа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5"/>
          <p:cNvSpPr/>
          <p:nvPr/>
        </p:nvSpPr>
        <p:spPr>
          <a:xfrm>
            <a:off x="228600" y="136440"/>
            <a:ext cx="3809880" cy="70128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839cb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ffffff"/>
                </a:solidFill>
                <a:latin typeface="Staccato222 BT"/>
              </a:rPr>
              <a:t>МАРИХУА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6"/>
          <p:cNvSpPr/>
          <p:nvPr/>
        </p:nvSpPr>
        <p:spPr>
          <a:xfrm>
            <a:off x="831960" y="5486400"/>
            <a:ext cx="7931160" cy="640440"/>
          </a:xfrm>
          <a:prstGeom prst="rect">
            <a:avLst/>
          </a:prstGeom>
          <a:solidFill>
            <a:srgbClr val="66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1800" spc="-1" strike="noStrike">
                <a:solidFill>
                  <a:srgbClr val="ffffff"/>
                </a:solidFill>
                <a:latin typeface="Arial"/>
              </a:rPr>
              <a:t>Тетрахидроканабинол се за разлику од веђине других дрога може детектовати у урину и након више недељ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Клиничке манифестациј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7030a0"/>
                </a:solidFill>
                <a:latin typeface="Calibri"/>
              </a:rPr>
              <a:t>Интоксикација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-симптоми су следећи:еуфорија или дисфорија,анксиозност,сумњичавост,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оцијално повлачење,поремећај расуђивања,повећање моторне координације,анксиозност,осећање успореног времена,као и следеће објективне знаке:дилатација крвних судов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вежњаче ( црвене очи )повећање апетита,сува уста и тахикардија,дозно зависна хипотермија,и блажа седација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Клиничке манифестациј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У веома великим дозама може да проузрокује блажи делиријум са паничним симптомима или продужену канабиноидну психозу која може трајати до 6 недељ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У веома великим дозама може да проузрокује блажи делиријум са паничним симптомима или продужену канабиноидну психозу која може трајати до 6 недеља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Апстиненцијални синдро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Calibri"/>
              </a:rPr>
              <a:t>Апстиненцијални синдром-симптоми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у:узнемиреност,депресивно расположење,несаница,грчеви у стомаку,проливи,малаксалост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езнојавање,проширене зенице,повраћање,а ретко у халуцинаторно-делрантно стање,које се може завршити и смрћ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Нежељени ефект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ежељени ефекти:већина психоактивних нежељених ефеката проузрокованих марихуаном нестају са престанком акутне интоксикације,што зависи од индивидуалне вулнерабилности ( показано је да је повезана са наслеђем ),факторе средине и доз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Нежељени ефект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уготрајна употреба може довести до анскиозности,депресије,оштећења краткотрајног памћења,расејања пажње,тешкоћа у мишљењу и решавању проблема,као и до апатично-амотивационог синдрома кога карактерише апатија,слаба концентрација,социјална апстиненцијаи губитак интереса за просперитето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Нежељени ефект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д је у питању психомоторика , појављују се смањење мишићне снаге и извођења простих моторних образаца и рефлексних одговора. При вишим дозама оштећене су координација и равнотеж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Marijuana3"/>
          <p:cNvPicPr/>
          <p:nvPr/>
        </p:nvPicPr>
        <p:blipFill>
          <a:blip r:embed="rId1"/>
          <a:srcRect l="0" t="11589" r="20000" b="592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Нежељени ефект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Од кардиоваскуларних нежељених ефеката се јављају повећање броја срчаних откуцаја (корелира са појавом и трајањем психичких ефеката,и са концентрацијом лека у плазми) потреба миокарда за кисеоником је повећана,а толеранција за радом је смањена ( опасност од исхемије миокарда код потрошача који већ имају атеросклерозу ),погоршавају већ постојећа обољења кардиоваскуларног система ( нарочито ангину и конгестивна оштећења)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Ортостатска хипотензија се јавља при вишим дозама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Нежељени ефект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ознато је да канабис индукује пулмоналну патологију, тако да се код хроничних пушача често јавља бронхитис, фаринголарингитис, хронични кашаљ,емфизем и астма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Дим марихуане, инхибира плућни одбрамбени систем ( примарно алвеоларне макрофаге,неутрофиле и лимфоците ); повећан је ризик за настанак карцинома плућа и врата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Нежељени ефект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Објављено је да канабис реверзибилно инхибира сперматогенезу и смањује ниво тестостерона, смањује величину тестиса и простате.Код жена супримира лутеинизирајући хормон у плазми током лутеалне фазе менструалног циклуса, што води већој фреквенци ановулаторних циклуса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Канабиноиди пролазе плацентарну баријеру и налазе се у млеку,што се може довести у корелацију са малом тежином новорођенчета и феталним абнормалностима,које су описане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Хашиш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Хашиш - утиче на бројне поремећаје перцепције и то простора, звукова, времена и схеме тела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Карактеристични су и хаотични емоционални доживљаји ( понекад параноидна идеација повезана са страхом и халуцинацијама ), што неки називају “ функционална декортикација”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Дуготрајна злоупотреба хашиша “ хашишизам “ даје карактеристичне измене личности:снижење вољних динамизама,емоционалну нестабилност,моралну деградацију личности,психичку астенију,сужавање интересовања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4" descr="hashishoil3 copy"/>
          <p:cNvPicPr/>
          <p:nvPr/>
        </p:nvPicPr>
        <p:blipFill>
          <a:blip r:embed="rId1"/>
          <a:srcRect l="4581" t="4423" r="3818" b="366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5"/>
          <p:cNvSpPr/>
          <p:nvPr/>
        </p:nvSpPr>
        <p:spPr>
          <a:xfrm>
            <a:off x="5715000" y="1981080"/>
            <a:ext cx="3048120" cy="366120"/>
          </a:xfrm>
          <a:prstGeom prst="rect">
            <a:avLst/>
          </a:prstGeom>
          <a:gradFill rotWithShape="0">
            <a:gsLst>
              <a:gs pos="0">
                <a:srgbClr val="525227"/>
              </a:gs>
              <a:gs pos="100000">
                <a:srgbClr val="333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ccecff"/>
                </a:solidFill>
                <a:latin typeface="Arial"/>
              </a:rPr>
              <a:t>УЉЕ ХАШИШ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1986120" y="5526000"/>
            <a:ext cx="399384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1800" spc="-1" strike="noStrike">
                <a:solidFill>
                  <a:srgbClr val="000000"/>
                </a:solidFill>
                <a:latin typeface="Arial"/>
              </a:rPr>
              <a:t>Добија се екстракцијом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annabis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1800" spc="-1" strike="noStrike">
                <a:solidFill>
                  <a:srgbClr val="000000"/>
                </a:solidFill>
                <a:latin typeface="Arial"/>
              </a:rPr>
              <a:t>У просеку садржи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15% THC-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Хвала на пажњи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Марихуан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Традиција конзумирања марихуане у религијске, социјалне, медицинске и културалне сврхе, иде уназад 5000 година, док злоупоупотреба започиње током 5о-их година у субкултурама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Марихуана и хашиш се добијају из биљке Канабис сатива ( индијска конопља )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Из семена ове биљке добија се психоактивна смола, која садржи преко преко 60 структурно сличних састојака који се зову канабиноиди од којих је 9-тетрахидроканабинол ( ТХЦ ) најдоговорнији за већину психоактивних ефеката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Марихуан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Марихуана ( улични називи трава,биљка, Мери Џејн, МЈ, пот ,ганџа ) означава горње листове, цветове и стабљику биљке, која осушена, исечена се користи увијена у цигарете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адржи 4-12 % ТХЦ-а.</a:t>
            </a:r>
            <a:br>
              <a:rPr sz="3000"/>
            </a:b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Хашиш је осушени црно-браон смоласт ексудат са врхова и доње стране лишћа женске биљке и обично садржи 40-45 % ТХЦ-а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marihuana copy"/>
          <p:cNvPicPr/>
          <p:nvPr/>
        </p:nvPicPr>
        <p:blipFill>
          <a:blip r:embed="rId1"/>
          <a:srcRect l="0" t="17246" r="23469" b="12617"/>
          <a:stretch/>
        </p:blipFill>
        <p:spPr>
          <a:xfrm>
            <a:off x="0" y="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3"/>
          <p:cNvSpPr/>
          <p:nvPr/>
        </p:nvSpPr>
        <p:spPr>
          <a:xfrm>
            <a:off x="169920" y="5027760"/>
            <a:ext cx="87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1800" spc="-1" strike="noStrike">
                <a:solidFill>
                  <a:srgbClr val="ffffcc"/>
                </a:solidFill>
                <a:latin typeface="Arial"/>
              </a:rPr>
              <a:t>Марихуана је дрога која се најчешће злоупотребљава-обично се пуши у облику цигарета-</a:t>
            </a:r>
            <a:r>
              <a:rPr b="0" i="1" lang="en-US" sz="1800" spc="-1" strike="noStrike">
                <a:solidFill>
                  <a:srgbClr val="ffffcc"/>
                </a:solidFill>
                <a:latin typeface="Arial"/>
              </a:rPr>
              <a:t>“joint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Марихуана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Канабиноиди се обично пуше у виду ручно завијених цигарета-тзв.џоинт, или преко луле или водене луле ( тзв.пајп )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У последње време су постале популарне цигаре марихуана - тзв.блунт у којима је дуван замењен марихуаном ( често је марихуана у комбинацији са креком или кокаином ).</a:t>
            </a:r>
            <a:br>
              <a:rPr sz="2700"/>
            </a:b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Такође се користе као чај,помешани са храном или се жваћу ( почетак ефекта је одложен )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Понекад се користи и прчишћени ТХЦ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Ефекти ТХЦ-а зависе од дозе,фреквенце и начина употребе, као и од искуства и очекивања корисника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Марихуан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Доза ТХЦ-а која је потребна да произведе фармаколошки ефекат у организму пушењем се креће од 2 до 22 мг. 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ТХЦ је растворљив у масти и нагло се апсорбује после пушења, тако да ефекти у ЦНС-у и кардиоваскуларном систему почињу за мање од 1 минута, пик достижу за 20-30 минута, а ефекти трају 2-4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Моторни и когнитивни ефекти могу да трају 5-12 ч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1036"/>
          <p:cNvGrpSpPr/>
          <p:nvPr/>
        </p:nvGrpSpPr>
        <p:grpSpPr>
          <a:xfrm>
            <a:off x="0" y="-76320"/>
            <a:ext cx="9144000" cy="6972480"/>
            <a:chOff x="0" y="-76320"/>
            <a:chExt cx="9144000" cy="6972480"/>
          </a:xfrm>
        </p:grpSpPr>
        <p:pic>
          <p:nvPicPr>
            <p:cNvPr id="64" name="Picture 1027" descr="Marijuana11"/>
            <p:cNvPicPr/>
            <p:nvPr/>
          </p:nvPicPr>
          <p:blipFill>
            <a:blip r:embed="rId1"/>
            <a:srcRect l="3100" t="0" r="50389" b="0"/>
            <a:stretch/>
          </p:blipFill>
          <p:spPr>
            <a:xfrm>
              <a:off x="0" y="-76320"/>
              <a:ext cx="4572000" cy="6934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Picture 1029" descr="Marijuana7a"/>
            <p:cNvPicPr/>
            <p:nvPr/>
          </p:nvPicPr>
          <p:blipFill>
            <a:blip r:embed="rId2"/>
            <a:srcRect l="0" t="2551" r="4762" b="5102"/>
            <a:stretch/>
          </p:blipFill>
          <p:spPr>
            <a:xfrm>
              <a:off x="4572000" y="-42840"/>
              <a:ext cx="4572000" cy="693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Rectangle 1030"/>
            <p:cNvSpPr/>
            <p:nvPr/>
          </p:nvSpPr>
          <p:spPr>
            <a:xfrm>
              <a:off x="0" y="4938840"/>
              <a:ext cx="3994200" cy="1189080"/>
            </a:xfrm>
            <a:prstGeom prst="rect">
              <a:avLst/>
            </a:prstGeom>
            <a:solidFill>
              <a:srgbClr val="0099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ffffff"/>
                  </a:solidFill>
                  <a:latin typeface="Staccato222 BT"/>
                </a:rPr>
                <a:t>Cannabis  “sinsemilla”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Rectangle 1031"/>
            <p:cNvSpPr/>
            <p:nvPr/>
          </p:nvSpPr>
          <p:spPr>
            <a:xfrm>
              <a:off x="4876920" y="-42840"/>
              <a:ext cx="2687400" cy="1066680"/>
            </a:xfrm>
            <a:prstGeom prst="rect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Staccato222 BT"/>
                </a:rPr>
                <a:t>Cannabis  indic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Text Box 1032"/>
            <p:cNvSpPr/>
            <p:nvPr/>
          </p:nvSpPr>
          <p:spPr>
            <a:xfrm>
              <a:off x="6553080" y="566640"/>
              <a:ext cx="2216160" cy="6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CS" sz="1800" spc="-1" strike="noStrike">
                  <a:solidFill>
                    <a:srgbClr val="000000"/>
                  </a:solidFill>
                  <a:latin typeface="Arial"/>
                </a:rPr>
                <a:t>Зрела стабљика марихуан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Text Box 1033"/>
            <p:cNvSpPr/>
            <p:nvPr/>
          </p:nvSpPr>
          <p:spPr>
            <a:xfrm>
              <a:off x="0" y="642960"/>
              <a:ext cx="4578480" cy="366120"/>
            </a:xfrm>
            <a:prstGeom prst="rect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CS" sz="1800" spc="-1" strike="noStrike">
                  <a:solidFill>
                    <a:srgbClr val="000000"/>
                  </a:solidFill>
                  <a:latin typeface="Arial"/>
                </a:rPr>
                <a:t>Узгој под вештачком расвето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Марихуана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Ефекти пушења марихуане се могу груписати у 4 фазе:</a:t>
            </a:r>
            <a:br>
              <a:rPr sz="2700"/>
            </a:b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а) фаза еуфоричног узбуђења ( физичка и морална лагодност и спокојство, илузиони феномени ),</a:t>
            </a:r>
            <a:br>
              <a:rPr sz="2700"/>
            </a:b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б) фаза сензорне егзалтације ( повећана изоштреност перцепција, сугестибилност, анксиозност, спациотемпорална дезоријентација ),</a:t>
            </a:r>
            <a:br>
              <a:rPr sz="2700"/>
            </a:b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ц) фаза пасивне екстазе ( екстатична доживљавања са визијама, деперсонализацијама, пасивна апатија,</a:t>
            </a:r>
            <a:br>
              <a:rPr sz="2700"/>
            </a:b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немоћ )</a:t>
            </a:r>
            <a:br>
              <a:rPr sz="2700"/>
            </a:b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д) фаза сна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17T13:30:04Z</dcterms:created>
  <dc:creator>Minja</dc:creator>
  <dc:description/>
  <dc:language>en-US</dc:language>
  <cp:lastModifiedBy>Minja</cp:lastModifiedBy>
  <dcterms:modified xsi:type="dcterms:W3CDTF">2017-01-30T23:11:40Z</dcterms:modified>
  <cp:revision>12</cp:revision>
  <dc:subject/>
  <dc:title>Неуробиологија марихуане</dc:title>
</cp:coreProperties>
</file>